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F0D0-C92A-425D-B4B8-FC8350CB5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112C-E4DE-4B4E-87A3-369668A0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16E8-11D3-400E-B4D7-9FB3C6F6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7B49-0854-4367-999A-918261BF1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4FFEF-FED7-4303-B7B7-2857E024F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60A6-DD0F-4F1A-91AA-63F37FC6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C769-FE6E-43A5-819D-ED7B31B3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783D-8BED-40A8-8E94-78EAAAD2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4AD9E-FA95-40F3-812D-4DF6DF61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A49EA-D06F-4DAE-919A-AF68468A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5FF86-B564-452D-916C-88CDF357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A1F5-1A78-47C3-BC95-0136B13D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786C-5871-41AF-8B05-24C21320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2F83-D70B-4E8F-A686-866EBEE5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721A9-2600-43A0-A803-C0EA60EA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A8293-DB9C-4B46-BB81-81FFB8A4A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D0105-A4A6-4FB2-B707-E04CE7C97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7025-4B9F-4455-820F-FB1EB690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63BD-7C31-4445-A9CE-F9932FAC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478F-F9D0-44AB-B065-6DBF4CD7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FD00-D37D-4A7A-A614-B8ED2A12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FA2F-E220-4E3A-94A1-7140C7F5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D341-639D-4499-B2F9-56FF936C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DCD5-51C1-4497-AEC3-489FC24D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235D-241D-4FE9-934C-6E2BC2107BA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BCF7-05D4-405F-AF48-1DCF40D024A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pproaches to Teaching and Learning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Data Analysi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anscrib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This should be as detailed as is necessar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Only transcribe the sections you feel are necessary to your discussion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General rule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Number the lines if the section is lon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ndicate who is speakin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f you ‘tidy up’ the transcript, say how you have done thi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f you can’t hear, write (inaudible)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ction Research topic: teaching grammar using a C-R approach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ta collected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udents’ questionnai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sson recor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ary no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utor’s feedback no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ers’ feedbac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66"/>
                </a:solidFill>
                <a:latin typeface="Arial"/>
              </a:rPr>
              <a:t>How will you integrate this into your assignmen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-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tting, participants,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cussion of C-R literat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search desig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Less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sults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udent feedback/Peer Feedbac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alysis of spoken dat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kind of data is availabl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ecorded clas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iary accou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eachers’ log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Questionnai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tudents’ 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Observers’ no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ieldno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ata Analy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nt analysis and cod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Look for </a:t>
            </a:r>
            <a:r>
              <a:rPr b="0" i="1" lang="en-GB" sz="2400" spc="-1" strike="noStrike">
                <a:solidFill>
                  <a:srgbClr val="006666"/>
                </a:solidFill>
                <a:latin typeface="Arial"/>
              </a:rPr>
              <a:t>repeated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language or ideas in the texts that you have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Use coloured pens, index cards or another system to code the respons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Your codes can either be </a:t>
            </a:r>
            <a:r>
              <a:rPr b="0" i="1" lang="en-GB" sz="2400" spc="-1" strike="noStrike">
                <a:solidFill>
                  <a:srgbClr val="006666"/>
                </a:solidFill>
                <a:latin typeface="Arial"/>
              </a:rPr>
              <a:t>‘a priori’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(you decide on these before you start to code) or they can </a:t>
            </a:r>
            <a:r>
              <a:rPr b="0" i="1" lang="en-GB" sz="2400" spc="-1" strike="noStrike">
                <a:solidFill>
                  <a:srgbClr val="006666"/>
                </a:solidFill>
                <a:latin typeface="Arial"/>
              </a:rPr>
              <a:t>emerge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from the data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Questionnaires are likely to have a priori categories for closed questions; fieldnotes, diaries, tapescripts are likely to have a mixture of both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alysis of Spoken Discour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6666"/>
                </a:solidFill>
                <a:latin typeface="Arial"/>
              </a:rPr>
              <a:t>Coding systems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e.g. IR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6666"/>
                </a:solidFill>
                <a:latin typeface="Arial"/>
              </a:rPr>
              <a:t>Types of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:  e.g. questions (open vs closed; genuine vs display; lower order vs higher order) or answers (one word; medium turns; long turns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6666"/>
                </a:solidFill>
                <a:latin typeface="Arial"/>
              </a:rPr>
              <a:t>Quality of: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.g teacher talk; student talk; explanations (vocabulary/grammar); instructions; teacher-student interaction; checking understand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inu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6666"/>
                </a:solidFill>
                <a:latin typeface="Arial"/>
              </a:rPr>
              <a:t>Amount of: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udent talk/teacher talk; whole class work/pair work/group work/individual work; wait time; thinking time; working with students’ answers (dialogic talk); silence; one student speaking…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iangul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 tool used in qualitative research to help ensure validity (that the research is of good quality and acceptable.  Internal validity: that the claims made are trustworthy; external validity: how generalisable are our claims).                         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esearchers elicit </a:t>
            </a:r>
            <a:r>
              <a:rPr b="0" i="1" lang="en-GB" sz="2800" spc="-1" strike="noStrike">
                <a:solidFill>
                  <a:srgbClr val="006666"/>
                </a:solidFill>
                <a:latin typeface="Arial"/>
              </a:rPr>
              <a:t>multiple perspectives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on the situation being studi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oosing data for analy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alk is designed to be heard, not read, so never move straight from recording to transcribing: always take time to listen carefully.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ichards, 2003:18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ding inform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you listen to the tape you’ve made, your first reaction will be, ‘Nothing’s happening’.  In my experience, this is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alway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he case when someone new to analysis listens to a tape for the first time…..listen to your tape over and over and over again …until you find part of the lesson where something interesting is happening.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ichards, 2003: 18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A</cp:lastModifiedBy>
  <dcterms:modified xsi:type="dcterms:W3CDTF">2007-11-29T09:47:2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